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B11-AE6B-4ABC-8F1B-7A012833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CDB-6D57-4EA6-9A4D-912FA318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E5D-5CC8-4C71-86A6-615B8760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A04-43B8-4FCC-B213-6A0B1A49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9727-2F8A-4C6C-8A45-EE9E5AAD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EF58-FDB2-4A17-9556-30E77013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B9B4-3D2D-445B-A0A2-11C9EE65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47A4-A5DB-49DC-99F1-8C5897DE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1952-3065-481D-B3BE-3CE5268E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CCB9-C635-4687-935F-D9C2214C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658B-3042-4DA6-8C64-59B86AC2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568-AB45-46AB-A51D-77F60CC2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A79F-C379-4164-A2D6-C568A205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01F6-407B-4600-AF52-FA70441D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063A-6E0E-4931-A411-264ABF3A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311E-52E8-4C20-8BAD-D7D9AEA1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9126-059B-457E-A917-A4F5EB35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A65-F884-469F-83A3-6CD15438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D86-185E-4AE8-81F2-85FB0A21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4DF-8747-4179-BCC8-9C7314F0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E52-E33F-44BD-8C5C-637660C3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219-54A0-40EA-9C82-A2743C4E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3B9-9473-4C12-B1A2-0FDF8212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9E0-F7AF-494D-B24F-F46A8DCA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24CB-638E-4CD2-8072-9912BE3F3A44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BB4A-45A5-4CD9-A518-2AB04C36DF3A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hyperlink" Target="http://www.worlrdbank.org/" TargetMode="External"/><Relationship Id="rId3" Type="http://schemas.openxmlformats.org/officeDocument/2006/relationships/hyperlink" Target="http://www.unido.org/" TargetMode="External"/><Relationship Id="rId4" Type="http://schemas.openxmlformats.org/officeDocument/2006/relationships/hyperlink" Target="http://www.oecd.org/" TargetMode="External"/><Relationship Id="rId5" Type="http://schemas.openxmlformats.org/officeDocument/2006/relationships/hyperlink" Target="http://scholar.google.com/" TargetMode="External"/><Relationship Id="rId6" Type="http://schemas.openxmlformats.org/officeDocument/2006/relationships/hyperlink" Target="http://www.ljmu.ac.uk/" TargetMode="External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2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fying  new competencies and  Vocational Profiles  need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vide Branco, </a:t>
            </a:r>
            <a:r>
              <a:rPr b="0" i="1" lang="sl-SI" sz="1600" spc="-1" strike="noStrike">
                <a:solidFill>
                  <a:srgbClr val="000000"/>
                </a:solidFill>
                <a:latin typeface="Arial"/>
              </a:rPr>
              <a:t>Laurea, MA, MSc (executive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22th Sept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. Community Manager (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good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. Community Assi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support Community  Manager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monitoring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l education at secondary level, University education degree for volunteers’ coord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local partners and stakeholde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imum organizational skills especially in delivery of clear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relevant experience in the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i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tiv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sensitivity to human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character able to accept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9. Social Enterprise Trainer</a:t>
            </a: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Facilit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5 years’ relevan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ing experience in similar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training and  business developmen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,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pecialized in Social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of standard and specific IT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lity and Certif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cise and searching for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ment skills to understand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importance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1: Analysis of existing/potenti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316160"/>
          <a:ext cx="8713800" cy="4700520"/>
        </p:xfrm>
        <a:graphic>
          <a:graphicData uri="http://schemas.openxmlformats.org/drawingml/2006/table">
            <a:tbl>
              <a:tblPr/>
              <a:tblGrid>
                <a:gridCol w="716040"/>
                <a:gridCol w="4829040"/>
                <a:gridCol w="1728720"/>
                <a:gridCol w="14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Impor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687240"/>
                <a:gridCol w="5156280"/>
                <a:gridCol w="1224000"/>
                <a:gridCol w="129528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Analysi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existing and potential impor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Effectivenes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their effectiveness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3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Level of maturity of S.L.E.P.T.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(social, legal, economical, political, technological) sub- 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absorbe changes and to evaluate the time to introduce new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4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Tentative opportunity list of vocational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who fi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5: Level of matching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between potential new profiles obtained by comparison and level of S.L.E.P.T. maturity in Sloveni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 list all suitable, feasible and acceptable 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6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otential 5 best  vocational new profiles in Slovenia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finally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effectiveness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2: Effectiveness of existing/potential 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348080"/>
        </p:xfrm>
        <a:graphic>
          <a:graphicData uri="http://schemas.openxmlformats.org/drawingml/2006/table">
            <a:tbl>
              <a:tblPr/>
              <a:tblGrid>
                <a:gridCol w="676440"/>
                <a:gridCol w="4518000"/>
                <a:gridCol w="1800000"/>
                <a:gridCol w="1235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440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SLEPT Indicator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maturity)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ARNING: on real SLEPT to be considered at Local Leve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3: Level of maturity of S.L.E.P.T. (social, legal, economical, political, technological) sub-environment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not mature - 5 very ma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622760"/>
        </p:xfrm>
        <a:graphic>
          <a:graphicData uri="http://schemas.openxmlformats.org/drawingml/2006/table">
            <a:tbl>
              <a:tblPr/>
              <a:tblGrid>
                <a:gridCol w="676080"/>
                <a:gridCol w="4795920"/>
                <a:gridCol w="1295640"/>
                <a:gridCol w="146196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e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274680"/>
          <a:ext cx="8229600" cy="587700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368360"/>
                <a:gridCol w="1378080"/>
              </a:tblGrid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opportunity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 (who start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4: Tentative opportunity list of vocation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91520" cy="4492800"/>
        </p:xfrm>
        <a:graphic>
          <a:graphicData uri="http://schemas.openxmlformats.org/drawingml/2006/table">
            <a:tbl>
              <a:tblPr/>
              <a:tblGrid>
                <a:gridCol w="681120"/>
                <a:gridCol w="4657680"/>
                <a:gridCol w="1440000"/>
                <a:gridCol w="15127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’ Opportunity (who fir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5022720"/>
                <a:gridCol w="1224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-SLEPT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A-F-S) to each matching level of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(1/3 A+1/3 B+1/3 C) to each profile’s  SLEPT match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liminar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read some material (</a:t>
            </a: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you remember the Stakeholders’ analysis in Slove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get some “feelings” from the existing situation on the field (homework for previous modul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lease, give shortly your feed-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5: Level of matching between potential new profiles obtained by comparison and level of S.L.E.P.T. maturity in Slovenia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1 very low – 5 very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413000"/>
          <a:ext cx="8507520" cy="4773600"/>
        </p:xfrm>
        <a:graphic>
          <a:graphicData uri="http://schemas.openxmlformats.org/drawingml/2006/table">
            <a:tbl>
              <a:tblPr/>
              <a:tblGrid>
                <a:gridCol w="674640"/>
                <a:gridCol w="2792520"/>
                <a:gridCol w="1800000"/>
                <a:gridCol w="1727280"/>
                <a:gridCol w="1513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cep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a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it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457200" y="274680"/>
          <a:ext cx="8229600" cy="5915160"/>
        </p:xfrm>
        <a:graphic>
          <a:graphicData uri="http://schemas.openxmlformats.org/drawingml/2006/table">
            <a:tbl>
              <a:tblPr/>
              <a:tblGrid>
                <a:gridCol w="860400"/>
                <a:gridCol w="5176800"/>
                <a:gridCol w="2192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1/3 A+1/3 B+1/3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The Facilitator, together with the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ists all outcomes form previous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elect the 5 Best pro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weight (importance) to each Profile for each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Final rank to each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ime: 20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6: Final List of potential 5 best  vocational new profiles in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271520"/>
          <a:ext cx="8229600" cy="4773600"/>
        </p:xfrm>
        <a:graphic>
          <a:graphicData uri="http://schemas.openxmlformats.org/drawingml/2006/table">
            <a:tbl>
              <a:tblPr/>
              <a:tblGrid>
                <a:gridCol w="639720"/>
                <a:gridCol w="26528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or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port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inal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e defined framework positions at middle and high level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about vocational profiles to be identified by the product/service they are dealing with generated by the creativity of the social entrepreneur and managed by the social mana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n other words: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ho play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entrepreneur who has an idea with social impact and became a social entrepreneur or the product/service which defines the profiles…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re are thousands of products/services which can be generated by the idea of the social entrepreneurs and who require specific qualified people to work on at levels lower then management and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ere some examples of profiles as a result of product/service the social enterprise deal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cycling old PC 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ultural Heritage Protection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people trained to understand and mantain cultural heritag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airtrade           need people to be trained to use/to create their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andcraf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ssembling          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atering            need  people trained to be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waiters, chef assistant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leaning cooperative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rofessional clea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duction            needs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sewing for example.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House maintenance cooperative           need people trained in different houseworks: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gardeners, cleaners, bricklay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…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nting House Cooperative           need people trained to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 Maste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and trained on the job by the Master..)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business Cooperative 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culture 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cattle care workers, fields workers,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220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422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lderly House Cooperative          need people trained as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volunteer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support paramedic, doctors,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io-product agri-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urism           need people trained in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many position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…..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many mor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414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Do not move to next slid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ntify max 5 Vocational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scribe those ma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the SLEPT characteristics allow A.F.S.? (remember Step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local environment has the needed skills and competence to be train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the managerial skills to ensure effectiv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.and mo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the end what is the K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Creativity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generate an entrepreneurial idea,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managerial skill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manage effectively and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qualified labour forc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implement/to produc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Feed-bac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se the templates only as a base for your fiel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rame the templates to your specific environment and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 not use a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“PhD attitude” t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oncentrate on details by forgetting wider view and results to b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ople must be stimulated (facilitated) to learn not “forced to learn” by classic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sults (jobs generated, new social enterprises, income generated,…) do measure the real impact, not “academic” pape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mpathy will help you more then knowledge: either you have it or no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You are dealing in a very specific fiel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key internet sour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worldbank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unido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oecd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 email info: register at: My OEC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://scholar.google.co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ljmu.ac.u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netlibrary; clo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Thank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y Davide Br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davide.branco@cid-b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10 KEY Vocational Profi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384920"/>
            <a:ext cx="820908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Social Enterpris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Manager (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As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Social Enterprise Trainer(Facilit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ountries where mainly those exist 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(and/or regulate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552680"/>
            <a:ext cx="84978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EU15, Scandinavia, Italy, Germany, UK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Few EU15,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Few EU15, UK and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Ve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y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few EU15, Italy (30%) and Germany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Description of Vocational Profi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43588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49636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al Enterprise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No wish of getting high salary!!…..(a part of USA….90,000 US $!!)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pecialized in C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S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09-21T06:46:37Z</dcterms:modified>
  <cp:revision>62</cp:revision>
  <dc:subject/>
  <dc:title>Diapozitiv 1</dc:title>
</cp:coreProperties>
</file>